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4E33-7F1B-47A4-A690-EC4C6D6B5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F55D-6F2B-4C8C-B81C-5BA5AAB1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DB6E-9D57-477C-8028-BA30FCE29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2DE4-54AC-4105-BD6A-208815BE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1292-83CB-473D-B55B-2D64B50D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3AEA-00B1-4652-9494-FCC32EC2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7A7B-F08C-4256-AE1F-EF0A3F99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F17A-DD03-442E-B79E-23775DB7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6DBA-FFD4-43FA-929F-93DCBCEA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AB66-61DF-4D43-82D3-24A09ABE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7351-0BDA-4373-AB37-952FADE2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32FB-5A7E-4D39-BB17-A2D71A92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07205-762C-4BB2-9D0E-D6B62FA85C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780000" y="1700280"/>
          <a:ext cx="1714320" cy="13111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4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八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3780000" y="342900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はち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e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780000" y="1484280"/>
          <a:ext cx="1649160" cy="1311480"/>
        </p:xfrm>
        <a:graphic>
          <a:graphicData uri="http://schemas.openxmlformats.org/drawingml/2006/table">
            <a:tbl>
              <a:tblPr/>
              <a:tblGrid>
                <a:gridCol w="164916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名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3714840" y="3284640"/>
          <a:ext cx="1785960" cy="1055520"/>
        </p:xfrm>
        <a:graphic>
          <a:graphicData uri="http://schemas.openxmlformats.org/drawingml/2006/table">
            <a:tbl>
              <a:tblPr/>
              <a:tblGrid>
                <a:gridCol w="1785960"/>
              </a:tblGrid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な／めい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780000" y="1484280"/>
          <a:ext cx="1649160" cy="1311480"/>
        </p:xfrm>
        <a:graphic>
          <a:graphicData uri="http://schemas.openxmlformats.org/drawingml/2006/table">
            <a:tbl>
              <a:tblPr/>
              <a:tblGrid>
                <a:gridCol w="164916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小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3643200" y="3284640"/>
          <a:ext cx="1928880" cy="1055520"/>
        </p:xfrm>
        <a:graphic>
          <a:graphicData uri="http://schemas.openxmlformats.org/drawingml/2006/table">
            <a:tbl>
              <a:tblPr/>
              <a:tblGrid>
                <a:gridCol w="1928880"/>
              </a:tblGrid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ちい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/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しょ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780000" y="1557360"/>
          <a:ext cx="1714320" cy="13111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学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3000240" y="3141720"/>
          <a:ext cx="3429000" cy="105552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が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School(1</a:t>
                      </a:r>
                      <a:r>
                        <a:rPr b="1" lang="en-NZ" sz="2000" spc="-1" strike="noStrike" baseline="30000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st</a:t>
                      </a: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 half)/to lea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708360" y="1484280"/>
          <a:ext cx="1714680" cy="131148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何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3708360" y="3213000"/>
          <a:ext cx="1714680" cy="105588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05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なに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なん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wh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708360" y="1341360"/>
          <a:ext cx="1714680" cy="131148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半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はん   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hal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一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い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口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く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mo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3635280" y="105264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年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ねん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／と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し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NZ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才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さ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years 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三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さ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th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780000" y="1484280"/>
          <a:ext cx="1649160" cy="1311480"/>
        </p:xfrm>
        <a:graphic>
          <a:graphicData uri="http://schemas.openxmlformats.org/drawingml/2006/table">
            <a:tbl>
              <a:tblPr/>
              <a:tblGrid>
                <a:gridCol w="164916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男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3714840" y="3284640"/>
          <a:ext cx="1857240" cy="1055520"/>
        </p:xfrm>
        <a:graphic>
          <a:graphicData uri="http://schemas.openxmlformats.org/drawingml/2006/table">
            <a:tbl>
              <a:tblPr/>
              <a:tblGrid>
                <a:gridCol w="1857240"/>
              </a:tblGrid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おとこ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/ma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708360" y="1341360"/>
          <a:ext cx="1714680" cy="131148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右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みぎ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五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f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土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Satur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時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3571920" y="2901960"/>
          <a:ext cx="2000160" cy="1055520"/>
        </p:xfrm>
        <a:graphic>
          <a:graphicData uri="http://schemas.openxmlformats.org/drawingml/2006/table">
            <a:tbl>
              <a:tblPr/>
              <a:tblGrid>
                <a:gridCol w="2000160"/>
              </a:tblGrid>
              <a:tr h="1313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じ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hour/o’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七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し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な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sev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780000" y="1484280"/>
          <a:ext cx="1649160" cy="1311480"/>
        </p:xfrm>
        <a:graphic>
          <a:graphicData uri="http://schemas.openxmlformats.org/drawingml/2006/table">
            <a:tbl>
              <a:tblPr/>
              <a:tblGrid>
                <a:gridCol w="164916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出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3071880" y="3284640"/>
          <a:ext cx="3571920" cy="1055520"/>
        </p:xfrm>
        <a:graphic>
          <a:graphicData uri="http://schemas.openxmlformats.org/drawingml/2006/table">
            <a:tbl>
              <a:tblPr/>
              <a:tblGrid>
                <a:gridCol w="3571920"/>
              </a:tblGrid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 exit/go out/lea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九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きゅう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n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780000" y="1484280"/>
          <a:ext cx="1649160" cy="1311480"/>
        </p:xfrm>
        <a:graphic>
          <a:graphicData uri="http://schemas.openxmlformats.org/drawingml/2006/table">
            <a:tbl>
              <a:tblPr/>
              <a:tblGrid>
                <a:gridCol w="164916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先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357720" y="3284640"/>
          <a:ext cx="2571480" cy="1055520"/>
        </p:xfrm>
        <a:graphic>
          <a:graphicData uri="http://schemas.openxmlformats.org/drawingml/2006/table">
            <a:tbl>
              <a:tblPr/>
              <a:tblGrid>
                <a:gridCol w="2571480"/>
              </a:tblGrid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せん 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ious,l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十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じゅ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火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3714840" y="2901960"/>
          <a:ext cx="1785960" cy="1055520"/>
        </p:xfrm>
        <a:graphic>
          <a:graphicData uri="http://schemas.openxmlformats.org/drawingml/2006/table">
            <a:tbl>
              <a:tblPr/>
              <a:tblGrid>
                <a:gridCol w="1785960"/>
              </a:tblGrid>
              <a:tr h="1313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Tuesday/fi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木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3643200" y="2901960"/>
          <a:ext cx="2000520" cy="1055520"/>
        </p:xfrm>
        <a:graphic>
          <a:graphicData uri="http://schemas.openxmlformats.org/drawingml/2006/table">
            <a:tbl>
              <a:tblPr/>
              <a:tblGrid>
                <a:gridCol w="2000520"/>
              </a:tblGrid>
              <a:tr h="1313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も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Thursday/t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金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3643200" y="2901960"/>
          <a:ext cx="1928880" cy="1055520"/>
        </p:xfrm>
        <a:graphic>
          <a:graphicData uri="http://schemas.openxmlformats.org/drawingml/2006/table">
            <a:tbl>
              <a:tblPr/>
              <a:tblGrid>
                <a:gridCol w="1928880"/>
              </a:tblGrid>
              <a:tr h="1313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きん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か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Friday/mon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四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し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よん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f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日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3571920" y="2901960"/>
          <a:ext cx="2000160" cy="1055520"/>
        </p:xfrm>
        <a:graphic>
          <a:graphicData uri="http://schemas.openxmlformats.org/drawingml/2006/table">
            <a:tbl>
              <a:tblPr/>
              <a:tblGrid>
                <a:gridCol w="2000160"/>
              </a:tblGrid>
              <a:tr h="1313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にち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ひ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sun/day/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目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eye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年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ねん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と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円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え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y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校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429000" y="2901960"/>
          <a:ext cx="2286000" cy="105552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1313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こ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School(2</a:t>
                      </a:r>
                      <a:r>
                        <a:rPr b="1" lang="en-GB" sz="2000" spc="-1" strike="noStrike" baseline="30000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nd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 half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語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ご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langu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生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3500280" y="2901960"/>
          <a:ext cx="2571840" cy="1055520"/>
        </p:xfrm>
        <a:graphic>
          <a:graphicData uri="http://schemas.openxmlformats.org/drawingml/2006/table">
            <a:tbl>
              <a:tblPr/>
              <a:tblGrid>
                <a:gridCol w="2571840"/>
              </a:tblGrid>
              <a:tr h="1313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せ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じょう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student/to be bo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人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3429000" y="2901960"/>
          <a:ext cx="2214720" cy="1055520"/>
        </p:xfrm>
        <a:graphic>
          <a:graphicData uri="http://schemas.openxmlformats.org/drawingml/2006/table">
            <a:tbl>
              <a:tblPr/>
              <a:tblGrid>
                <a:gridCol w="22147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ひ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にん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じ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per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六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ろ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si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入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は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い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to en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分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286080" y="2901960"/>
          <a:ext cx="2857680" cy="1055520"/>
        </p:xfrm>
        <a:graphic>
          <a:graphicData uri="http://schemas.openxmlformats.org/drawingml/2006/table">
            <a:tbl>
              <a:tblPr/>
              <a:tblGrid>
                <a:gridCol w="2857680"/>
              </a:tblGrid>
              <a:tr h="1313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ふん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ぷん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minute/to underst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左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ひだ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le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女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おん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wom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子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chi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大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おお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だ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bi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本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ほ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bo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手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hand(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中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な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in/insi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今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いま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こ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780000" y="1484280"/>
          <a:ext cx="1649160" cy="1311480"/>
        </p:xfrm>
        <a:graphic>
          <a:graphicData uri="http://schemas.openxmlformats.org/drawingml/2006/table">
            <a:tbl>
              <a:tblPr/>
              <a:tblGrid>
                <a:gridCol w="164916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前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429000" y="3284640"/>
          <a:ext cx="3071880" cy="1055520"/>
        </p:xfrm>
        <a:graphic>
          <a:graphicData uri="http://schemas.openxmlformats.org/drawingml/2006/table">
            <a:tbl>
              <a:tblPr/>
              <a:tblGrid>
                <a:gridCol w="3071880"/>
              </a:tblGrid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ま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/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ぜ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front of/befo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行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こ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to 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780000" y="1484280"/>
          <a:ext cx="1649160" cy="1311480"/>
        </p:xfrm>
        <a:graphic>
          <a:graphicData uri="http://schemas.openxmlformats.org/drawingml/2006/table">
            <a:tbl>
              <a:tblPr/>
              <a:tblGrid>
                <a:gridCol w="164916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8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上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714840" y="3357720"/>
          <a:ext cx="2071440" cy="1055520"/>
        </p:xfrm>
        <a:graphic>
          <a:graphicData uri="http://schemas.openxmlformats.org/drawingml/2006/table">
            <a:tbl>
              <a:tblPr/>
              <a:tblGrid>
                <a:gridCol w="2071440"/>
              </a:tblGrid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う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/</a:t>
                      </a:r>
                      <a:r>
                        <a:rPr b="1" lang="ja-JP" sz="2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じょ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/abo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月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357720" y="2901960"/>
          <a:ext cx="2500200" cy="1055520"/>
        </p:xfrm>
        <a:graphic>
          <a:graphicData uri="http://schemas.openxmlformats.org/drawingml/2006/table">
            <a:tbl>
              <a:tblPr/>
              <a:tblGrid>
                <a:gridCol w="2500200"/>
              </a:tblGrid>
              <a:tr h="1313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げ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が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/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つき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Monday/month/mo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708360" y="1197000"/>
          <a:ext cx="1714680" cy="13111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312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二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714840" y="2901960"/>
          <a:ext cx="1714320" cy="1055520"/>
        </p:xfrm>
        <a:graphic>
          <a:graphicData uri="http://schemas.openxmlformats.org/drawingml/2006/table">
            <a:tbl>
              <a:tblPr/>
              <a:tblGrid>
                <a:gridCol w="1714320"/>
              </a:tblGrid>
              <a:tr h="1055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tw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780000" y="1484280"/>
          <a:ext cx="1649160" cy="1311480"/>
        </p:xfrm>
        <a:graphic>
          <a:graphicData uri="http://schemas.openxmlformats.org/drawingml/2006/table">
            <a:tbl>
              <a:tblPr/>
              <a:tblGrid>
                <a:gridCol w="1649160"/>
              </a:tblGrid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8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水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08360" y="3284640"/>
          <a:ext cx="1714680" cy="105552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105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すい／みず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Wednesday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MS Mincho"/>
                          <a:ea typeface="MS Mincho"/>
                        </a:rPr>
                        <a:t>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23:42:13Z</dcterms:created>
  <dc:creator>k.ludgate</dc:creator>
  <dc:description/>
  <dc:language>en-US</dc:language>
  <cp:lastModifiedBy>Wellington College User</cp:lastModifiedBy>
  <dcterms:modified xsi:type="dcterms:W3CDTF">2009-09-12T21:55:03Z</dcterms:modified>
  <cp:revision>23</cp:revision>
  <dc:subject/>
  <dc:title>Slide 1</dc:title>
</cp:coreProperties>
</file>